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EF62-5B94-4514-89B4-AAE638DC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7002-AD76-4481-B0C4-B0B1797C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F266F2-7EFF-4C58-B9A5-EDAB13B8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F7F6F9-0A95-4F82-96A2-4DCA1D41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E0E824-0C28-4C03-B4DA-ACBC2CBE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06584F-29C5-429F-9A9B-266EE658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B981F0-1E13-4EE4-BEAF-5C2058A4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0DE839-8FFC-4E9A-98A7-6948693E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9C04E3-FB63-4357-9322-F91E6D94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44ACD4-D778-432B-95D8-C722A62B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C4D12A-0AB1-4750-BF00-515BAB19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1A4BD-604F-4BC3-8114-A74368AF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7FE5-7580-41D7-9022-CD5D8D3E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2EF4A-EA74-42F6-AB50-58C2829D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A491C-D6AE-48E6-A0BE-FB5B5CC1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E6998-5DF9-431A-95BC-E48535F4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0C8AF-B561-4778-8FC3-2D9A0494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23822-3E7C-4EE3-9E6D-55279937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BD2CC-3C27-4511-9C01-FF525EDA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5F75B-3B1E-4515-85C3-D52E56F3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23C7B-E572-4ACE-BBF5-721B5FFF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635ED-6CE4-484E-83FB-18CFD347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680C0-B8EA-4FCB-A3A4-24097A89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C066-824F-453E-9235-548D12B1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F0143-5C77-49C0-B8A0-27DD8BF2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17868-CA57-406E-A835-9B1E6E4D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40B1F-648B-4784-8D65-FA44B1B8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62E20-FA44-4D7B-B562-735C990E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BA093-66E3-4829-A7CF-12372CC4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8AF9E-0065-4392-AEC5-E88A0B7E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CBED0-4B6F-4FF7-833E-62727EAF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11CF8-6385-4B60-A4AA-2C1A10C6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03F1E-156A-406E-805B-2EF1BB52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7F2AB-4A75-45C8-9B3C-9991B3C7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9E465-43D2-4758-976D-FE114295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D13D1-6D65-45ED-A53A-7CE9E6C4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3F38E-F0DC-4083-8903-623211A1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53594-86E7-4B04-98DF-7F08FEB8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F6401-4682-44C1-A098-FC08ED59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4AE3D-5391-4C53-9807-8228AC5C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DEF32-C816-45EC-827E-152C5E33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88C1F-4F4D-4299-960A-0B1A5C24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B63C0-8DE9-4ACB-BD29-FEBA662C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77605-B86A-4FF6-81D5-16459068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333BC-269E-4112-B095-64670392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2050D-7302-44A5-9ED2-294CD44E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08175-9483-45A9-9E4F-67518EFC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5D6CC-E6B7-4840-8E41-2A261D48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7F8BA-0AC0-4A03-B2F2-EE77788C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B4CFE-159D-4120-A88F-8F671996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22803-5CAD-4904-A49D-CDE4F649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2CCE2-317E-448C-B03C-1F11B211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C1BF6-A735-497E-ADEF-7295DDEF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7CC4C-B56C-472F-91DF-4EB601BE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0327F-1967-4171-97ED-50F5E1D0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D43EA-1A3A-4B0E-B568-59A28E0D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3BB-C29F-43FE-A2C5-6804D5EB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F5895-1A4D-4C48-8169-71673397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B4BA2-DC26-4FD4-930A-BA5AA2E0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B0912-DDCF-4454-823A-0FCA84C7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506A1-4C73-4A7D-AB05-1BE3C850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A8FDF-0E74-4581-878E-29319338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EA8DC-FA0E-4CB3-8B65-BF134958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A38C5-7B80-46B5-803A-098B4E4F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F06B9-D949-47F4-B78C-DC788587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8DF74-EBFE-4D09-A0D4-D350A80B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75DC8-783B-4BEA-A6C1-36CC0CC2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DDA-D288-4BBD-B9D5-732A39D6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C79F8-1167-49A4-83C9-E1B10375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AF658-1C01-4B24-A501-E7B776F6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1264C-EF25-4299-93E0-53D57605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DC322-BD89-4BB7-A344-F469F76D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17AA1-09F7-428F-ACDF-97909244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95C75-5556-4725-8529-A9404CEA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FDB8F-3BD0-4DFB-9100-EF365175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70641B-39DA-4852-A571-00176544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B2DAF7-E63E-458E-AB05-AA64D0AC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C6C025-3DAE-456B-8F9C-5F312F9E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4E04-98ED-4F3B-B985-CB0068D1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F1F999-2A1A-4CA2-9F7D-0A51EF0C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EB7D95-7B1E-4DD3-A4BA-B09D3CA9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100738-13C0-41D3-8678-13F6A5E5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F5DC4A-0DAC-4526-9D8C-F7E635FD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911D3D-8210-4CF9-9F22-37FD752D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F61FC1-5276-472F-A80B-FB8364EF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3E0033-3D24-436A-8BC5-907A7808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B4DF91-34E4-43BD-9BF7-E0FFAA7D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359D90-C54C-450E-895E-5570481C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4E10E-214C-4CDA-BB0D-23D123B9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B826-E125-4E9B-B28D-75CEA684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7928B-A784-48E3-85FA-9653FB97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5BE7A-2B20-41EC-BBEC-F586EA1F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BE116-E82F-40BE-B606-4CA6C5B8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2DD87-A273-46B6-8764-1342AD51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E8E6F-7C3A-4BCE-AD9B-DF46B99A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4A766-488C-4F07-9A2B-13497B31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AD7F1-93B7-4DCA-96A2-1B8C11D8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E619C-02D2-4AF3-8CDC-BE7F0289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F6785-0006-4D37-B260-7F7A9CD1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92394-90F9-4C75-929A-1FA68C8F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731-A328-4028-9E03-23185892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95476-E7D4-4B5A-B16A-299BD52F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3F819-32B0-44F4-A11A-F06D0073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349AA-5AA0-46BB-BEC8-FDCA1FD5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E80DB-639D-447F-9B88-1108429A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34606-4BB0-4EC7-A936-A54510C0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635BD-636B-4FE3-A0FF-9F613535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74BA2-21DE-4FB9-B601-DB5D011E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1149B-CA3B-47B9-BFE0-3F0A49BB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7BD4A-B999-4265-AEE8-4EF59851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64F40-6C8A-473B-BFA1-8D0D8CAF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444F-3EBB-4A8C-8B55-8B6658A1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8C1C6-5160-4E57-8564-80B56002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9E63A-19F9-4EB7-93C7-BE116B0F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98FC0-D0C1-483F-8515-B0E89172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0E8BA-096B-4A94-B8FF-7692E806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6FBDA-57AE-471D-ADDE-E5378876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472FA-34A8-4129-89B3-C0454909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F4229-0EF3-4B18-835B-8345FD04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49C93-510E-4E23-9412-7A3B46AA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33121-49DC-4299-A401-7A194222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C44DE-99EE-49B5-8DD8-E2A7A796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E60B-E8D2-4352-937F-4077FFA1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F9080-6D2A-4CEB-8287-9FFACC5F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D7A66-EA79-4EDE-91FC-FA401B3F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EE8CF-9A97-4CB7-852D-1F42AA18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BB5AE-6C55-4AD3-8DCE-58C7DC2B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17D37-D06B-4553-8AF5-3795DB4F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EBFC7D-C37A-4B4C-9FAB-DF71C1E6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D56DC5-F64E-4584-AE92-5AC68404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68EE1A-9B21-4111-A83B-AB575406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6104BF-9A8E-4B5B-89E1-C0D5D83F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C60662-53FC-45DF-BE5D-7923B841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8324-655D-40C6-86BB-F6A1F8C2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164BAE-53A2-4463-B553-73516309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428AAB-BF80-41EF-9615-2A7E6778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F64495-E451-4B55-BB91-299BFD50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87B123-B9AD-4592-BCE3-E3DC9E03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4EE329-9139-4360-B3DD-64EE78C1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DB38B6-413F-47B7-912F-6EF32BD8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48A19D-C6F2-48AA-A7C5-284A0949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0EA678-0CD5-4173-A2B6-112A45A0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2CCE8C-9989-4E94-8CF4-61ABAED6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CF9423-1F22-4290-A7EA-F3B144CD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B744-6A15-4583-9885-8A1510C462A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95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63D9-E6EB-468E-9144-A4FF5B5F6F2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ED4C-6F00-4289-AB3D-6C41B4815B3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8C2D-5678-4598-99B4-F03A580186B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88A7-0E0E-4966-B8B5-C1E476F3D7B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C310-38B5-43C8-BD9C-F7D172CD0F6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13D1-73B0-4B2C-A246-783267A913D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C20E-7F69-4EE9-90CF-EE281E3B753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49FE-E78C-4B14-8C5B-870E3191A37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2D7D-8FD6-4878-8093-04101D0123B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64CB-9A90-42F2-A71F-F7E8B023D1F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140A-16B2-439B-B75D-8525AE94DC7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hyperlink" Target="http://www.firstworldwar.com/posters/canada.htm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file:///seven_tricks.html" TargetMode="External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Rectangle 4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9637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pp_can_06"/>
          <p:cNvPicPr/>
          <p:nvPr/>
        </p:nvPicPr>
        <p:blipFill>
          <a:blip r:embed="rId3"/>
          <a:stretch/>
        </p:blipFill>
        <p:spPr>
          <a:xfrm>
            <a:off x="2700360" y="1341360"/>
            <a:ext cx="3398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10" descr="pp_uk_06"/>
          <p:cNvPicPr/>
          <p:nvPr/>
        </p:nvPicPr>
        <p:blipFill>
          <a:blip r:embed="rId2"/>
          <a:stretch/>
        </p:blipFill>
        <p:spPr>
          <a:xfrm>
            <a:off x="2556000" y="189000"/>
            <a:ext cx="4464000" cy="6630840"/>
          </a:xfrm>
          <a:prstGeom prst="rect">
            <a:avLst/>
          </a:prstGeom>
          <a:ln w="0">
            <a:noFill/>
          </a:ln>
        </p:spPr>
      </p:pic>
      <p:sp>
        <p:nvSpPr>
          <p:cNvPr id="550" name="TextBox 8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7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2" name="Picture 8" descr="pp_can_04"/>
          <p:cNvPicPr/>
          <p:nvPr/>
        </p:nvPicPr>
        <p:blipFill>
          <a:blip r:embed="rId2"/>
          <a:stretch/>
        </p:blipFill>
        <p:spPr>
          <a:xfrm>
            <a:off x="2556000" y="333360"/>
            <a:ext cx="403200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9" descr="pp_uk_07"/>
          <p:cNvPicPr/>
          <p:nvPr/>
        </p:nvPicPr>
        <p:blipFill>
          <a:blip r:embed="rId2"/>
          <a:stretch/>
        </p:blipFill>
        <p:spPr>
          <a:xfrm>
            <a:off x="2340000" y="252360"/>
            <a:ext cx="4176720" cy="6505560"/>
          </a:xfrm>
          <a:prstGeom prst="rect">
            <a:avLst/>
          </a:prstGeom>
          <a:ln w="0">
            <a:noFill/>
          </a:ln>
        </p:spPr>
      </p:pic>
      <p:sp>
        <p:nvSpPr>
          <p:cNvPr id="554" name="TextBox 6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7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6" name="Picture 13" descr="http://www.google.ca/url?source=imgres&amp;ct=img&amp;q=http://s3.hubimg.com/u/1116470_f520.jpg&amp;sa=X&amp;ei=Qb1nTfTEIcq4tgeyxYXoAw&amp;ved=0CAQQ8wc&amp;usg=AFQjCNEG6Jrnz35ujutLMMvfQM8bzsjvtw"/>
          <p:cNvPicPr/>
          <p:nvPr/>
        </p:nvPicPr>
        <p:blipFill>
          <a:blip r:embed="rId2"/>
          <a:stretch/>
        </p:blipFill>
        <p:spPr>
          <a:xfrm>
            <a:off x="2700360" y="316080"/>
            <a:ext cx="424800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5" descr="pp_uk_08"/>
          <p:cNvPicPr/>
          <p:nvPr/>
        </p:nvPicPr>
        <p:blipFill>
          <a:blip r:embed="rId2"/>
          <a:stretch/>
        </p:blipFill>
        <p:spPr>
          <a:xfrm>
            <a:off x="2916360" y="333360"/>
            <a:ext cx="4103640" cy="6291360"/>
          </a:xfrm>
          <a:prstGeom prst="rect">
            <a:avLst/>
          </a:prstGeom>
          <a:ln w="0">
            <a:noFill/>
          </a:ln>
        </p:spPr>
      </p:pic>
      <p:sp>
        <p:nvSpPr>
          <p:cNvPr id="558" name="TextBox 6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2" descr="pp_uk_09"/>
          <p:cNvPicPr/>
          <p:nvPr/>
        </p:nvPicPr>
        <p:blipFill>
          <a:blip r:embed="rId2"/>
          <a:stretch/>
        </p:blipFill>
        <p:spPr>
          <a:xfrm>
            <a:off x="2916360" y="260280"/>
            <a:ext cx="4248000" cy="6330960"/>
          </a:xfrm>
          <a:prstGeom prst="rect">
            <a:avLst/>
          </a:prstGeom>
          <a:ln w="0">
            <a:noFill/>
          </a:ln>
        </p:spPr>
      </p:pic>
      <p:sp>
        <p:nvSpPr>
          <p:cNvPr id="560" name="TextBox 5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http://www.google.ca/url?source=imgres&amp;ct=img&amp;q=http://www.underconsideration.com/speakup/archives/SU_war-2.jpg&amp;sa=X&amp;ei=EL5nTYnKAYWUtwfp8vjnAw&amp;ved=0CAQQ8wc4LQ&amp;usg=AFQjCNHdqX1i7_gVeU7KFKlsTkt7JcypsQ"/>
          <p:cNvPicPr/>
          <p:nvPr/>
        </p:nvPicPr>
        <p:blipFill>
          <a:blip r:embed="rId2"/>
          <a:stretch/>
        </p:blipFill>
        <p:spPr>
          <a:xfrm>
            <a:off x="1835280" y="1413000"/>
            <a:ext cx="6756120" cy="5025960"/>
          </a:xfrm>
          <a:prstGeom prst="rect">
            <a:avLst/>
          </a:prstGeom>
          <a:ln w="0">
            <a:noFill/>
          </a:ln>
        </p:spPr>
      </p:pic>
      <p:sp>
        <p:nvSpPr>
          <p:cNvPr id="562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4" descr="http://www.google.ca/url?source=imgres&amp;ct=img&amp;q=http://www.warandgender.com/5_fig010.jpg&amp;sa=X&amp;ei=0c9nTYGGMcrAtgey7ZzoAw&amp;ved=0CAQQ8wc4Ww&amp;usg=AFQjCNFqzvs4DXBZdshOaoztOPLHd8mvEQ"/>
          <p:cNvPicPr/>
          <p:nvPr/>
        </p:nvPicPr>
        <p:blipFill>
          <a:blip r:embed="rId2"/>
          <a:stretch/>
        </p:blipFill>
        <p:spPr>
          <a:xfrm>
            <a:off x="2556000" y="333360"/>
            <a:ext cx="4181400" cy="6203880"/>
          </a:xfrm>
          <a:prstGeom prst="rect">
            <a:avLst/>
          </a:prstGeom>
          <a:ln w="0">
            <a:noFill/>
          </a:ln>
        </p:spPr>
      </p:pic>
      <p:sp>
        <p:nvSpPr>
          <p:cNvPr id="564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http://www.google.ca/url?source=imgres&amp;ct=img&amp;q=http://www.pinetreeweb.com/bp-ww1-poster.jpg&amp;sa=X&amp;ei=FNBnTaKFJIWXtwfPzqjoAw&amp;ved=0CAQQ8wc4Ww&amp;usg=AFQjCNE3K16jozMNvu4NStfP2ZqZN7lg5g"/>
          <p:cNvPicPr/>
          <p:nvPr/>
        </p:nvPicPr>
        <p:blipFill>
          <a:blip r:embed="rId2"/>
          <a:stretch/>
        </p:blipFill>
        <p:spPr>
          <a:xfrm>
            <a:off x="2771640" y="223920"/>
            <a:ext cx="4297320" cy="6634080"/>
          </a:xfrm>
          <a:prstGeom prst="rect">
            <a:avLst/>
          </a:prstGeom>
          <a:ln w="0">
            <a:noFill/>
          </a:ln>
        </p:spPr>
      </p:pic>
      <p:sp>
        <p:nvSpPr>
          <p:cNvPr id="566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http://www.google.ca/url?source=imgres&amp;ct=img&amp;q=http://www.infobarrel.com/media/image/1385.jpg&amp;sa=X&amp;ei=Is9nTbeKKIS5tgevr6DoAw&amp;ved=0CAQQ8wc&amp;usg=AFQjCNHOqOEV_AP6pJPQBLhdvUTbFCibTA"/>
          <p:cNvPicPr/>
          <p:nvPr/>
        </p:nvPicPr>
        <p:blipFill>
          <a:blip r:embed="rId2"/>
          <a:stretch/>
        </p:blipFill>
        <p:spPr>
          <a:xfrm>
            <a:off x="1908000" y="0"/>
            <a:ext cx="4535640" cy="6719760"/>
          </a:xfrm>
          <a:prstGeom prst="rect">
            <a:avLst/>
          </a:prstGeom>
          <a:ln w="0">
            <a:noFill/>
          </a:ln>
        </p:spPr>
      </p:pic>
      <p:sp>
        <p:nvSpPr>
          <p:cNvPr id="568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Rectangle 4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Propaganda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is a specific type of message presentation aimed at serving an agenda. At its root, the denotation of propaganda is 'to propagate (actively spread) a philosophy or point of view'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e most common use of the term (historically) is in political contexts; in particular to refer to certain efforts sponsored by governments or political groups. (Wikipedia)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30" name="Picture 9" descr="pp_can_09"/>
          <p:cNvPicPr/>
          <p:nvPr/>
        </p:nvPicPr>
        <p:blipFill>
          <a:blip r:embed="rId3"/>
          <a:stretch/>
        </p:blipFill>
        <p:spPr>
          <a:xfrm>
            <a:off x="5289480" y="1905120"/>
            <a:ext cx="2755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le 1" descr=""/>
          <p:cNvPicPr/>
          <p:nvPr/>
        </p:nvPicPr>
        <p:blipFill>
          <a:blip r:embed="rId2"/>
          <a:stretch/>
        </p:blipFill>
        <p:spPr>
          <a:xfrm>
            <a:off x="457200" y="378000"/>
            <a:ext cx="8242200" cy="22492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250560" y="3068640"/>
            <a:ext cx="8497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orld War I Posters- Canada </a:t>
            </a:r>
            <a:br>
              <a:rPr sz="3200"/>
            </a:br>
            <a:r>
              <a:rPr b="0" lang="en-US" sz="3200" spc="-1" strike="noStrike" u="sng">
                <a:solidFill>
                  <a:srgbClr val="db5353"/>
                </a:solidFill>
                <a:uFillTx/>
                <a:latin typeface="Rockwell"/>
                <a:hlinkClick r:id="rId3"/>
              </a:rPr>
              <a:t>http://www.firstworldwar.com/posters/canada.ht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Rectangle 4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1649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ach of the nations which participated in World War One from 1914-18 used propaganda poster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hey used posters to: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justify their involvement to their own populace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As a means of recruiting men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A way to raise money and resources to sustain the military campaign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o urge conservation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33" name="Picture 10" descr="pp_uk_33"/>
          <p:cNvPicPr/>
          <p:nvPr/>
        </p:nvPicPr>
        <p:blipFill>
          <a:blip r:embed="rId3"/>
          <a:stretch/>
        </p:blipFill>
        <p:spPr>
          <a:xfrm>
            <a:off x="5148360" y="1484280"/>
            <a:ext cx="33462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Rectangle 2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164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elevision had not yet been invente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Not everyone owned or had access to a radio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osters were the most effective means of getting a message acros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36" name="Picture 16" descr="http://www.google.ca/url?source=imgres&amp;ct=img&amp;q=http://rlv.zcache.com/ww1_collectors_card_1914_canada_propaganda_postcard-p239228030672924246trdg_400.jpg&amp;sa=X&amp;ei=ub1nTb7ECIHHtgej1pnoAw&amp;ved=0CAQQ8wc&amp;usg=AFQjCNHqVicEdsZbF8RHg_MN0xkrsCMTRg"/>
          <p:cNvPicPr/>
          <p:nvPr/>
        </p:nvPicPr>
        <p:blipFill>
          <a:blip r:embed="rId3"/>
          <a:stretch/>
        </p:blipFill>
        <p:spPr>
          <a:xfrm>
            <a:off x="4788000" y="17733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Rectangle 4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211640" y="1905120"/>
            <a:ext cx="468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Quite often propaganda is connected with negative emotion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uring the Great War the governments needed money for the war effort so they focused their efforts on posters aimed at raising money from citizens for the war effor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AutoShape 11"/>
          <p:cNvSpPr/>
          <p:nvPr/>
        </p:nvSpPr>
        <p:spPr>
          <a:xfrm>
            <a:off x="77760" y="-1257480"/>
            <a:ext cx="17431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0" name="Picture 13" descr="http://www.google.ca/url?source=imgres&amp;ct=img&amp;q=http://www.ww1westernfront.gov.au/notre-dame/images/awm-artv00468.jpg&amp;sa=X&amp;ei=HL1nTfi4GJG3twfg-ojoAw&amp;ved=0CAQQ8wc&amp;usg=AFQjCNH1W85C4FmIQqqyLWn6M4D7BeumJA"/>
          <p:cNvPicPr/>
          <p:nvPr/>
        </p:nvPicPr>
        <p:blipFill>
          <a:blip r:embed="rId3"/>
          <a:stretch/>
        </p:blipFill>
        <p:spPr>
          <a:xfrm>
            <a:off x="971640" y="1773360"/>
            <a:ext cx="27367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Rectangle 2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40328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db5353"/>
                </a:solidFill>
                <a:uFillTx/>
                <a:latin typeface="Rockwell"/>
                <a:hlinkClick r:id="rId3"/>
              </a:rPr>
              <a:t>Seven Tricks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Rockwell"/>
              </a:rPr>
              <a:t>(link)</a:t>
            </a:r>
            <a:br>
              <a:rPr sz="3400"/>
            </a:br>
            <a:br>
              <a:rPr sz="3400"/>
            </a:br>
            <a:r>
              <a:rPr b="0" lang="en-US" sz="3400" spc="-1" strike="noStrike" u="sng">
                <a:solidFill>
                  <a:srgbClr val="ffffff"/>
                </a:solidFill>
                <a:uFillTx/>
                <a:latin typeface="Rockwel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Rockwell"/>
              </a:rPr>
              <a:t>Activity:  In small groups, examine the following posters and identify the ‘tricks’ used in the posters.  Each group will present their conclusions to the class.</a:t>
            </a: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9" descr="pp_uk_02"/>
          <p:cNvPicPr/>
          <p:nvPr/>
        </p:nvPicPr>
        <p:blipFill>
          <a:blip r:embed="rId2"/>
          <a:stretch/>
        </p:blipFill>
        <p:spPr>
          <a:xfrm>
            <a:off x="2195640" y="189000"/>
            <a:ext cx="4608360" cy="6541920"/>
          </a:xfrm>
          <a:prstGeom prst="rect">
            <a:avLst/>
          </a:prstGeom>
          <a:ln w="0">
            <a:noFill/>
          </a:ln>
        </p:spPr>
      </p:pic>
      <p:sp>
        <p:nvSpPr>
          <p:cNvPr id="544" name="TextBox 8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3" descr="pp_uk_01"/>
          <p:cNvPicPr/>
          <p:nvPr/>
        </p:nvPicPr>
        <p:blipFill>
          <a:blip r:embed="rId2"/>
          <a:stretch/>
        </p:blipFill>
        <p:spPr>
          <a:xfrm>
            <a:off x="2050920" y="115920"/>
            <a:ext cx="4465800" cy="65847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5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9" descr="pp_can_09"/>
          <p:cNvPicPr/>
          <p:nvPr/>
        </p:nvPicPr>
        <p:blipFill>
          <a:blip r:embed="rId2"/>
          <a:stretch/>
        </p:blipFill>
        <p:spPr>
          <a:xfrm>
            <a:off x="2340000" y="291960"/>
            <a:ext cx="4176720" cy="6232680"/>
          </a:xfrm>
          <a:prstGeom prst="rect">
            <a:avLst/>
          </a:prstGeom>
          <a:ln w="0">
            <a:noFill/>
          </a:ln>
        </p:spPr>
      </p:pic>
      <p:sp>
        <p:nvSpPr>
          <p:cNvPr id="548" name="TextBox 5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22:08:58Z</dcterms:created>
  <dc:creator>Rob Cotey</dc:creator>
  <dc:description/>
  <dc:language>en-US</dc:language>
  <cp:lastModifiedBy>Craig Rush</cp:lastModifiedBy>
  <dcterms:modified xsi:type="dcterms:W3CDTF">2011-11-14T00:07:32Z</dcterms:modified>
  <cp:revision>16</cp:revision>
  <dc:subject/>
  <dc:title>Propaganda in World War One</dc:title>
</cp:coreProperties>
</file>